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3532B-C60D-4B2C-873A-66B2ADA04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EA19-C676-4C7F-9B49-77C51964E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E50B0-D98F-481D-B4FE-A401BB89E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35339-240B-41CB-9842-44F232E4A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060CE-1453-4984-B20B-C4B9C1BF4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3D2F5-9897-417F-9073-F9490DE4A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BD10A-E305-486D-88CA-77D6B1CBE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D8BB9-90BA-4F8E-89D2-CA513D14F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FB9E0-5AB3-4B8F-B268-11350D346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19CFA-05BB-46EB-A19D-C90DE4CE4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6F88C-279C-4679-8BA7-57F7D357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6A9D8-7139-4977-BFF8-F0174238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18922-9658-42F9-9A14-A8F90861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CC97-7E0D-46D5-B595-0DA78F664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FDEB2-7AE1-4321-9E60-E7099E7EF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88D1F-C5FB-4251-B397-731CA9889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78321-DC5B-48FF-BC3F-0D1406B4E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D381E-2366-4BC4-92A4-FD19AE3D4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7234C-CD36-4518-975D-11CFD2FD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7D882-D2B2-4357-A145-14B996330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DD16-D5DF-4C1C-ABFC-73ADDBFD5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E21B-0F02-4E54-931F-F72AD589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8910-2D2F-415C-A899-81917274D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3CCE-CE9D-47A8-931D-E8812E750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5"/>
          <p:cNvGrpSpPr/>
          <p:nvPr/>
        </p:nvGrpSpPr>
        <p:grpSpPr>
          <a:xfrm>
            <a:off x="0" y="68400"/>
            <a:ext cx="8915400" cy="6713280"/>
            <a:chOff x="0" y="68400"/>
            <a:chExt cx="8915400" cy="6713280"/>
          </a:xfrm>
        </p:grpSpPr>
        <p:grpSp>
          <p:nvGrpSpPr>
            <p:cNvPr id="1" name="Group 222"/>
            <p:cNvGrpSpPr/>
            <p:nvPr/>
          </p:nvGrpSpPr>
          <p:grpSpPr>
            <a:xfrm>
              <a:off x="0" y="68400"/>
              <a:ext cx="647640" cy="6713280"/>
              <a:chOff x="0" y="68400"/>
              <a:chExt cx="647640" cy="6713280"/>
            </a:xfrm>
          </p:grpSpPr>
          <p:sp>
            <p:nvSpPr>
              <p:cNvPr id="2" name="Line 122"/>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123"/>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124"/>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125"/>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126"/>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127"/>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28"/>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29"/>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30"/>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1"/>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32"/>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33"/>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34"/>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35"/>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36"/>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37"/>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138"/>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139"/>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140"/>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141"/>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142"/>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143"/>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144"/>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145"/>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146"/>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147"/>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148"/>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149"/>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150"/>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151"/>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152"/>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153"/>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154"/>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155"/>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156"/>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157"/>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158"/>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159"/>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160"/>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161"/>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162"/>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163"/>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164"/>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165"/>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166"/>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167"/>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168"/>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169"/>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170"/>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171"/>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172"/>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173"/>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174"/>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175"/>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176"/>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177"/>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178"/>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179"/>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180"/>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181"/>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182"/>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183"/>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184"/>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185"/>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186"/>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187"/>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188"/>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189"/>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190"/>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191"/>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192"/>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193"/>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194"/>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195"/>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196"/>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197"/>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198"/>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199"/>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200"/>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201"/>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202"/>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203"/>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204"/>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205"/>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206"/>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207"/>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208"/>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209"/>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210"/>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211"/>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212"/>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213"/>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214"/>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215"/>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216"/>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217"/>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218"/>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219"/>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224"/>
            <p:cNvGrpSpPr/>
            <p:nvPr/>
          </p:nvGrpSpPr>
          <p:grpSpPr>
            <a:xfrm>
              <a:off x="635040" y="325440"/>
              <a:ext cx="8280360" cy="1782720"/>
              <a:chOff x="635040" y="325440"/>
              <a:chExt cx="8280360" cy="1782720"/>
            </a:xfrm>
          </p:grpSpPr>
          <p:sp>
            <p:nvSpPr>
              <p:cNvPr id="101" name="Rectangle 116"/>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12"/>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17"/>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13"/>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A310-5561-47F9-B0F2-0F80FC7E826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325"/>
          <p:cNvGrpSpPr/>
          <p:nvPr/>
        </p:nvGrpSpPr>
        <p:grpSpPr>
          <a:xfrm>
            <a:off x="0" y="68400"/>
            <a:ext cx="8678880" cy="6713280"/>
            <a:chOff x="0" y="68400"/>
            <a:chExt cx="8678880" cy="6713280"/>
          </a:xfrm>
        </p:grpSpPr>
        <p:sp>
          <p:nvSpPr>
            <p:cNvPr id="147" name="Rectangle 217"/>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324"/>
            <p:cNvGrpSpPr/>
            <p:nvPr/>
          </p:nvGrpSpPr>
          <p:grpSpPr>
            <a:xfrm>
              <a:off x="0" y="68400"/>
              <a:ext cx="990720" cy="6713280"/>
              <a:chOff x="0" y="68400"/>
              <a:chExt cx="990720" cy="6713280"/>
            </a:xfrm>
          </p:grpSpPr>
          <p:sp>
            <p:nvSpPr>
              <p:cNvPr id="149" name="Line 224"/>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225"/>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226"/>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227"/>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228"/>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229"/>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230"/>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231"/>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232"/>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233"/>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234"/>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235"/>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236"/>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237"/>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238"/>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39"/>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40"/>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41"/>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42"/>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3"/>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44"/>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45"/>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46"/>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47"/>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48"/>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249"/>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250"/>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251"/>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252"/>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253"/>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254"/>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255"/>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256"/>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257"/>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258"/>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259"/>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260"/>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261"/>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262"/>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263"/>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264"/>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265"/>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266"/>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267"/>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268"/>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269"/>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270"/>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271"/>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272"/>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273"/>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274"/>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275"/>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276"/>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277"/>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278"/>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279"/>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280"/>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281"/>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282"/>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283"/>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284"/>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285"/>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286"/>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287"/>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288"/>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289"/>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290"/>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291"/>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292"/>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293"/>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294"/>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295"/>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296"/>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297"/>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298"/>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299"/>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300"/>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301"/>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302"/>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303"/>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304"/>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305"/>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306"/>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307"/>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308"/>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309"/>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310"/>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311"/>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312"/>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313"/>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314"/>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315"/>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316"/>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317"/>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318"/>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319"/>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320"/>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321"/>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220"/>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21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3943-33C2-4295-B633-2C948ECF2A6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earch Methodologies</a:t>
            </a: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Presented by Mechthild Maczewski</a:t>
            </a:r>
            <a:endParaRPr b="0" lang="en-US" sz="2000" spc="-1" strike="noStrike">
              <a:solidFill>
                <a:srgbClr val="003366"/>
              </a:solidFill>
              <a:latin typeface="Times New Roman"/>
            </a:endParaRPr>
          </a:p>
        </p:txBody>
      </p:sp>
      <p:pic>
        <p:nvPicPr>
          <p:cNvPr id="292" name="Picture 4" descr="collaging"/>
          <p:cNvPicPr/>
          <p:nvPr/>
        </p:nvPicPr>
        <p:blipFill>
          <a:blip r:embed="rId1"/>
          <a:stretch/>
        </p:blipFill>
        <p:spPr>
          <a:xfrm>
            <a:off x="2843280" y="2421000"/>
            <a:ext cx="4103640" cy="27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ta Analysis </a:t>
            </a:r>
            <a:r>
              <a:rPr b="0" lang="en-US" sz="2000" spc="-1" strike="noStrike">
                <a:solidFill>
                  <a:srgbClr val="003366"/>
                </a:solidFill>
                <a:latin typeface="Times New Roman"/>
              </a:rPr>
              <a:t>(C., p.191)</a:t>
            </a:r>
            <a:endParaRPr b="0" lang="en-US" sz="20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rganize and prepare the data for analysi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ad all data, get a sense of the whole</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gin detailed analysis with coding proces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Generate a description of the setting/people as well as categories or themes for analysi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present themes (writing, visual, etc.)</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terpret and make meaning out of dat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terative, non-linear proces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redibility </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Triangulati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Member Checking</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rich, thick Descripti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larification of Bia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of Negative or discrepant informati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longed field tim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er Debriefing  </a:t>
            </a:r>
            <a:endParaRPr b="0" lang="en-US" sz="2800" spc="-1" strike="noStrike">
              <a:solidFill>
                <a:srgbClr val="003366"/>
              </a:solidFill>
              <a:latin typeface="Times New Roman"/>
            </a:endParaRPr>
          </a:p>
          <a:p>
            <a:pPr marL="343080" indent="-343080">
              <a:spcBef>
                <a:spcPts val="3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 2003, p.196)</a:t>
            </a:r>
            <a:endParaRPr b="0" lang="en-US" sz="1400" spc="-1" strike="noStrike">
              <a:solidFill>
                <a:srgbClr val="003366"/>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earch Methodologies </a:t>
            </a:r>
            <a:br>
              <a:rPr sz="4000"/>
            </a:br>
            <a:r>
              <a:rPr b="0" lang="en-US" sz="4000" spc="-1" strike="noStrike">
                <a:solidFill>
                  <a:srgbClr val="003366"/>
                </a:solidFill>
                <a:latin typeface="Times New Roman"/>
              </a:rPr>
              <a:t>&amp; GILD</a:t>
            </a:r>
            <a:endParaRPr b="0" lang="en-US" sz="4000" spc="-1" strike="noStrike">
              <a:solidFill>
                <a:srgbClr val="003366"/>
              </a:solidFill>
              <a:latin typeface="Times New Roman"/>
            </a:endParaRPr>
          </a:p>
        </p:txBody>
      </p:sp>
      <p:sp>
        <p:nvSpPr>
          <p:cNvPr id="31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thnography</a:t>
            </a:r>
            <a:endParaRPr b="0" lang="en-US" sz="3200" spc="-1" strike="noStrike">
              <a:solidFill>
                <a:srgbClr val="003366"/>
              </a:solidFill>
              <a:latin typeface="Times New Roman"/>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ethnography is a description and interpretation of a cultural or social group or system.  The research examines the group’s observable and learned patterns of behaviour, customs, and ways of life. </a:t>
            </a:r>
            <a:r>
              <a:rPr b="0" lang="en-US" sz="2000" spc="-1" strike="noStrike">
                <a:solidFill>
                  <a:srgbClr val="003366"/>
                </a:solidFill>
                <a:latin typeface="Times New Roman"/>
              </a:rPr>
              <a:t>(C., 1998,p.58)</a:t>
            </a:r>
            <a:endParaRPr b="0" lang="en-US" sz="20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pid Ethnograph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search Methodologies </a:t>
            </a:r>
            <a:br>
              <a:rPr sz="4000"/>
            </a:br>
            <a:r>
              <a:rPr b="0" lang="en-US" sz="4000" spc="-1" strike="noStrike">
                <a:solidFill>
                  <a:srgbClr val="003366"/>
                </a:solidFill>
                <a:latin typeface="Times New Roman"/>
              </a:rPr>
              <a:t>&amp; GILD</a:t>
            </a:r>
            <a:endParaRPr b="0" lang="en-US" sz="40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ase Study</a:t>
            </a:r>
            <a:endParaRPr b="0" lang="en-US" sz="3200" spc="-1" strike="noStrike">
              <a:solidFill>
                <a:srgbClr val="003366"/>
              </a:solidFill>
              <a:latin typeface="Times New Roman"/>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 case study is an exploration of a ‘bounded system’ … over time through detailed, in-depth data collection involving multiple sources of information rich in context.  This bounded system is bounded by time and place, and it is the case being studied – a program, an event, an activity, or individuals. </a:t>
            </a:r>
            <a:r>
              <a:rPr b="0" lang="en-US" sz="2000" spc="-1" strike="noStrike">
                <a:solidFill>
                  <a:srgbClr val="003366"/>
                </a:solidFill>
                <a:latin typeface="Times New Roman"/>
              </a:rPr>
              <a:t>(C., 1999, p.61)</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eful Methods</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articipant observation </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ains insight into understanding cultural patterns to determine what’s necessary and needed in tool development (complementary to interview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terviews/Focusgroups with stakeholder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xplores how tools are used and could be used in a novice programming course</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ains insight into the meaning of tools for students for learning to program</a:t>
            </a:r>
            <a:endParaRPr b="0" lang="en-US" sz="2400" spc="-1" strike="noStrike">
              <a:solidFill>
                <a:srgbClr val="0033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eful Methods</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ata analysi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mes arising from data would provide insight into current “learning to program” issues and see what is important to students / teachers / administrators </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rvey </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ful for verifying results on a larger scale</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r Testing</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ful for triangulating result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hoice of </a:t>
            </a:r>
            <a:br>
              <a:rPr sz="4000"/>
            </a:br>
            <a:r>
              <a:rPr b="0" lang="en-US" sz="4000" spc="-1" strike="noStrike">
                <a:solidFill>
                  <a:srgbClr val="003366"/>
                </a:solidFill>
                <a:latin typeface="Times New Roman"/>
              </a:rPr>
              <a:t>Methodology &amp; Methods</a:t>
            </a:r>
            <a:endParaRPr b="0" lang="en-US" sz="40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epends 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 Question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 Goal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er Beliefs and Valu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earcher Skill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me and Fund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scussio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 Can tool improvement, collaboration, ed-tech questions and learning outcomes be addressed in the same stud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GILD research questions match which research methodologie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ferences</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reswell, J.W.  (1998).  </a:t>
            </a:r>
            <a:r>
              <a:rPr b="0" i="1" lang="en-US" sz="2400" spc="-1" strike="noStrike">
                <a:solidFill>
                  <a:srgbClr val="003366"/>
                </a:solidFill>
                <a:latin typeface="Times New Roman"/>
              </a:rPr>
              <a:t>Qualitative inquiry and research design.  Choosing among five traditions</a:t>
            </a:r>
            <a:r>
              <a:rPr b="0" lang="en-US" sz="2400" spc="-1" strike="noStrike">
                <a:solidFill>
                  <a:srgbClr val="003366"/>
                </a:solidFill>
                <a:latin typeface="Times New Roman"/>
              </a:rPr>
              <a:t>. Thousand Oaks, CA: Sag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reswell, J.W. (2003).  </a:t>
            </a:r>
            <a:r>
              <a:rPr b="0" i="1" lang="en-US" sz="2400" spc="-1" strike="noStrike">
                <a:solidFill>
                  <a:srgbClr val="003366"/>
                </a:solidFill>
                <a:latin typeface="Times New Roman"/>
              </a:rPr>
              <a:t>Research design.  Qualitative, quantitative and mixed methods approaches</a:t>
            </a:r>
            <a:r>
              <a:rPr b="0" lang="en-US" sz="2400" spc="-1" strike="noStrike">
                <a:solidFill>
                  <a:srgbClr val="003366"/>
                </a:solidFill>
                <a:latin typeface="Times New Roman"/>
              </a:rPr>
              <a:t>.  Thousand Oaks, CA: Sag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nzin, N.K. &amp; Lincoln, Y. (2000).  Introduction: The discipline and practice of qualitative research.  In N.K. Denzin &amp; Y. Lincoln (Eds.), </a:t>
            </a:r>
            <a:r>
              <a:rPr b="0" i="1" lang="en-US" sz="2400" spc="-1" strike="noStrike">
                <a:solidFill>
                  <a:srgbClr val="003366"/>
                </a:solidFill>
                <a:latin typeface="Times New Roman"/>
              </a:rPr>
              <a:t>Handbook of qualitative research </a:t>
            </a:r>
            <a:r>
              <a:rPr b="0" lang="en-US" sz="2400" spc="-1" strike="noStrike">
                <a:solidFill>
                  <a:srgbClr val="003366"/>
                </a:solidFill>
                <a:latin typeface="Times New Roman"/>
              </a:rPr>
              <a:t>(2</a:t>
            </a:r>
            <a:r>
              <a:rPr b="0" lang="en-US" sz="2400" spc="-1" strike="noStrike" baseline="30000">
                <a:solidFill>
                  <a:srgbClr val="003366"/>
                </a:solidFill>
                <a:latin typeface="Times New Roman"/>
              </a:rPr>
              <a:t>nd</a:t>
            </a:r>
            <a:r>
              <a:rPr b="0" lang="en-US" sz="2400" spc="-1" strike="noStrike">
                <a:solidFill>
                  <a:srgbClr val="003366"/>
                </a:solidFill>
                <a:latin typeface="Times New Roman"/>
              </a:rPr>
              <a:t> ed., pp.1-17).  Thousand Oaks, CA: Sag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verview of Presentation</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verview of Quantitative/Qualitative Methodologi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cus on Qualitative Resear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Questions, Characteristics, Methods, Data Analysis, Credibility</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search Methodologies / Methods &amp; GILD</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iscussion</a:t>
            </a: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verview of Research Methodologies</a:t>
            </a:r>
            <a:endParaRPr b="0" lang="en-US" sz="4000" spc="-1" strike="noStrike">
              <a:solidFill>
                <a:srgbClr val="003366"/>
              </a:solidFill>
              <a:latin typeface="Times New Roman"/>
            </a:endParaRPr>
          </a:p>
        </p:txBody>
      </p:sp>
      <p:sp>
        <p:nvSpPr>
          <p:cNvPr id="29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Qualitative Research</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thnography, Case Study, Grounded Theory, Autobiography, Participatory Action Research, Phenomenology (each grounded in a specific discipline and philosophical assumptions)</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Quantitative Research</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rvey methods, Experiments</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ixed Method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from qualitative and quantitative methods</a:t>
            </a:r>
            <a:endParaRPr b="0" lang="en-US" sz="2400" spc="-1" strike="noStrike">
              <a:solidFill>
                <a:srgbClr val="0033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antitativ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quantitative approach is one in which the investigator primarily uses post-positivist claims for developing knowledge (i.e. cause and effect thinking, reduction to specific variables and hypotheses and questions, use of measurement and observation, and the test of theories). </a:t>
            </a:r>
            <a:r>
              <a:rPr b="0" lang="en-US" sz="2000" spc="-1" strike="noStrike">
                <a:solidFill>
                  <a:srgbClr val="003366"/>
                </a:solidFill>
                <a:latin typeface="Times New Roman"/>
              </a:rPr>
              <a:t>(Creswell, 2003, p.19)</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alitative - Definition</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qualitative researchers study things in their natural settings, attempting to make sense of or interpret phenomenon in terms of the meanings people bring to them. </a:t>
            </a:r>
            <a:r>
              <a:rPr b="0" lang="en-US" sz="2000" spc="-1" strike="noStrike">
                <a:solidFill>
                  <a:srgbClr val="003366"/>
                </a:solidFill>
                <a:latin typeface="Times New Roman"/>
              </a:rPr>
              <a:t>(Denzin &amp; Lincoln, 2000, p.3).</a:t>
            </a: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alitative - Definition</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qualitative approach is one in which the inquirer often makes knowledge claims based primarily on constructivist perspectives (i.e. the multiple meanings of individual experiences, meanings socially and historically constructed, with an intent of developing a theory or pattern) or advocacy/participatory perspectives (i.e. political, issue-oriented, collaborative or change oriented) or both. </a:t>
            </a:r>
            <a:r>
              <a:rPr b="0" lang="en-US" sz="2000" spc="-1" strike="noStrike">
                <a:solidFill>
                  <a:srgbClr val="003366"/>
                </a:solidFill>
                <a:latin typeface="Times New Roman"/>
              </a:rPr>
              <a:t>(Creswell, 2003, p.18)</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earch Questions</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Qualitative</a:t>
            </a:r>
            <a:endParaRPr b="0" lang="en-US" sz="3200" spc="-1" strike="noStrike">
              <a:solidFill>
                <a:srgbClr val="003366"/>
              </a:solidFill>
              <a:latin typeface="Times New Roman"/>
            </a:endParaRPr>
          </a:p>
          <a:p>
            <a:pPr lvl="1" marL="743040" indent="-285840">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qualitative study inquirers state research questions, not objectives (i.e. specific goals for the research) or hypotheses (i.e. predictions that involve variables and statistical tests). </a:t>
            </a:r>
            <a:r>
              <a:rPr b="0" lang="en-US" sz="2000" spc="-1" strike="noStrike">
                <a:solidFill>
                  <a:srgbClr val="003366"/>
                </a:solidFill>
                <a:latin typeface="Times New Roman"/>
              </a:rPr>
              <a:t>(C., 2003, p.105)</a:t>
            </a:r>
            <a:endParaRPr b="0" lang="en-US" sz="20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ample: How do students use program development tool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haracteristics of </a:t>
            </a:r>
            <a:br>
              <a:rPr sz="4000"/>
            </a:br>
            <a:r>
              <a:rPr b="0" lang="en-US" sz="4000" spc="-1" strike="noStrike">
                <a:solidFill>
                  <a:srgbClr val="003366"/>
                </a:solidFill>
                <a:latin typeface="Times New Roman"/>
              </a:rPr>
              <a:t>Qualitative Research</a:t>
            </a:r>
            <a:endParaRPr b="0" lang="en-US" sz="40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kes place in the natural setting</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s multiple methods that are interpretive</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s emergent rather than tightly prefigured</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undamentally interpretive (role of researcher as interpreter)</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views social phenomena holistically</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systematically reflects on who he or she is in the inquiry and is sensitive to hiw or her personal biography and how it shapes the study</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uses complex reasoning that is multifaceted, iterative, and simultaneous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earcher adopts and uses one or more strategies of inquiry</a:t>
            </a:r>
            <a:endParaRPr b="0" lang="en-US" sz="2400" spc="-1" strike="noStrike">
              <a:solidFill>
                <a:srgbClr val="0033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earch Methods</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terview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cusgroup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articipant observation (field not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deo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ext and Image analysis (documents, media dat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15:54:18Z</dcterms:created>
  <dc:creator>Mechthild Maczewski</dc:creator>
  <dc:description/>
  <dc:language>en-US</dc:language>
  <cp:lastModifiedBy>farhad</cp:lastModifiedBy>
  <dcterms:modified xsi:type="dcterms:W3CDTF">2011-12-04T04:12:08Z</dcterms:modified>
  <cp:revision>41</cp:revision>
  <dc:subject/>
  <dc:title>Research Methodologies </dc:title>
</cp:coreProperties>
</file>